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958D-63C8-4348-A9C9-4907F8F0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3083-C27F-477C-B259-88C42AC6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CC78-6142-4F4A-804B-B2FBB4361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(Input Ques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D742-735D-47B6-9757-8D617D28B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Megan in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Sarah in haircuts and Megan in 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Justin in flats.  Kevin and Justin share in bre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Justin in flats and Tim in bre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Kevin in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Kevin in dishes.  Hannah in vacu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:  Americans in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e:  American in computers and China in T.V.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250B-673E-4ED8-8C3E-000E5424D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4FD-8721-4883-AACD-5B2F7845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024-6B61-46E2-A335-2902562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8F481-5A41-490C-967E-D09CB4A1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CD98B-54B9-4931-87AE-77E908C3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31CAE-B87F-4D04-8597-141F2DEB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B619-1636-4C3D-B719-A185A67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2C8E6-C413-4E63-B481-2AAF90B2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751D8-1041-4EE7-A628-A6D19B5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2D791-2034-40F9-A874-FD66A604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4E433-48BD-4580-A556-A304F510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67E1B-C78E-4D75-AEF5-59A02067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107D1-1D19-40F1-93DE-F2FBD34B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538-157A-4322-A62D-7C430261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2B6BC-E4D9-4BC8-BE38-274BF802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44F9A-A526-4171-BB3F-A35CE8BF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C3E53-859D-4AB9-A5BD-6163AA47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F16C4-98BC-4E02-A70C-6348E3B3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7B1F9-2901-4EC0-8786-75589CC3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B9F42-038B-4F0C-9503-0791FA52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9BE8D-5E59-4CC3-8CAA-66CE38C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5F920-425A-4B11-BA57-9798ACE9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AFBD3-2FCC-4A01-8EEC-82A8E2D1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0212F-038F-4D2D-AF65-4D26F176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F5F-BFB7-4CE4-A63C-4C01F7BF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8486E-971B-4091-B182-EB4C2DE7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E4ED9-DFD0-4F8E-8B38-FF684B70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F2793-DC09-433A-93F5-189F2A77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A594A-26B9-4B5A-BD3E-F28F5DE7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85FEC-2A44-4443-AAD4-601ACA5C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A0C6C-85EF-499F-ADB9-89B760C2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214FA-7D26-4C64-AB63-C3C2F68A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A5EDA-EA7C-41CF-AF1B-84A8DC48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E440E-1FAD-40D3-B2FA-C0AFEA0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600DE-7D54-4634-A13F-C306E00A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5DAD-651D-4F32-85D2-5BF4DA13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A869F-46AA-4A6A-8BCA-8E381E25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46730-2466-4FE4-9EAA-F74FCA76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6355D-C4EB-4FBE-BF5D-2A0209DD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4DA98-8B63-47E2-AD49-44A937B5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60A09-CBC9-4AAA-86B0-9B136855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C1368-3D11-4FB5-B40F-5E1DC8D1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D1AE8-A68C-4FE7-99BD-964BD6E4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DFFA9-830A-4EE8-A0B3-853A1239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80127-82B9-4F91-9B2D-EF0186A2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0F81D-5A22-4AAB-A283-1D520C84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2AEC-3E3F-4688-AF64-4E7B7623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5C76C-88B9-4EE4-B074-D0092471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3BA9D-BA6F-4959-BA25-F610E68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98087-7054-4531-8EEB-4FCFBF66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53EFC-5310-4F2B-A4E4-DA7CECD5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60999-85CD-42EB-B958-CECBD473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E561-8400-4DC2-A7A0-1D044A04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DAA9-1415-459D-A544-37BD559F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6D41-B673-4E07-93B0-65227402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5C6A-B109-492E-AC5A-16C8ABCD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2DC4-1347-4E31-B4B1-C2DAE060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471-3565-4F86-AFF5-0CA16AA2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AADD-1B39-4FF4-B063-A5E5799C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1C44-3CD1-418A-9441-D0E8F5A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D8EA-6915-4902-9526-8BC11E94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6B84-8459-4CEE-874B-96B48F2E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3980-C262-4338-923F-261775CB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1E12-3DDB-4F17-8896-F247B94F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D47F-4F2A-4B7B-9435-B3F0C721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89223-65FD-404C-8E42-C9EC6839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36CFC-A708-4B0B-AB0D-AA191B8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F940-D13F-409F-AF1C-519DB2FB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6DF-E9C4-4D3A-9CDF-6C210843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41CC-537E-4045-966D-2E1BF92E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DBAB-1AAB-4EB1-A407-F04A576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55A7-60AC-4702-AAA4-146CFF2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AFF7-B781-4FDC-A316-6B214B64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D862-20CD-4C59-94E3-0B09499E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96504-3913-4B83-A100-479167EF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918B-59A0-4004-92BB-D45614F2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4E584-D397-4F85-AF51-228373DF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C199-414A-4E57-BC77-A0AA8A92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68664-88EA-4C84-86CC-80F1B85A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5D2-E5D5-40DD-AB4A-3FD71D51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6E01-8B77-4016-ADF0-FD0F8DD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87F44-22D0-4DB1-A32F-958545D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4D780-9BA5-4F4E-BA62-468C8F87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FC489-80EF-47EE-848B-D2023FAA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EB89-D0D9-43E3-B32D-1B21E2C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1DF4-CC0C-4EE4-8398-4B8C872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CA1C-72E2-413F-9046-6A7BB9CF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77F6C-F8A7-49AE-8B84-EEB6EB29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21899-4145-4C48-91DE-B88653FF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E122D-C9B6-4C19-8E12-FECD1374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24C-2280-497C-BA4F-56A1DCC1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0F1F8-B264-46E0-82D3-81D5EA06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E37F-B5E3-4E10-82C9-12EB2D4F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14B32-4EA0-41D1-8554-01EFAB1F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C51A9-6F6F-48C6-B676-BA62B9C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EF9C-EA1C-4E41-9152-565D98F8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7D118-2428-4B8F-BAAF-C86BB924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AE7E7-C396-492D-AB9F-9F32F037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151F-91E4-4041-8C34-225DA1A7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57D73-3723-4739-A254-A6185D88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1AA06-7978-43D0-BF6C-BA91D262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DCE-FF0F-48DF-AD35-240BF5CF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E1011-46F1-4DD4-AD4E-A99351B3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64DF-DA68-4BE2-8205-0C9C82F8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3A679-A1E6-4DB1-A803-BFC2EBEE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6C421-3DB9-4994-A790-2474C3F3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6E671-7F01-4668-B251-6969CBC5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77771-6CD3-419B-826B-16ED49C9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AF1D2-AD6C-4DAE-9A63-BDF4A0C9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2E8C-82F2-4D2C-B81D-8CDE4766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6ACC-8FD1-4277-A1D4-17424C6F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95CB9-9410-47AC-A83D-1B71E05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7CC-7C09-477B-B43A-A08A7CF8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EEC4D-D5D4-4F30-8B64-D4185FFE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05785-1557-456A-B503-059E9EB3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72B85-054F-407A-99F4-F6FB2F77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A2694-81F7-4281-ACC6-90F87CC3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0DEC1-B009-419F-B8FA-7696CD3B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29BF0-1AEA-4EF8-8C97-87D5D6F2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8C634-8EF9-4054-A197-0FD00FD0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1C15A-F13A-47BE-B530-80B0B7BC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EBA7-63DC-48E6-8C4E-E130D750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0723F-38C7-41EC-A826-DB1F0FD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8C3-FE4E-44AF-A51E-ADCAC725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3DD7E-8988-4F11-B867-F5A510B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C32F3-0840-4FFA-A1F8-543E3DFB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C349-234D-4F3D-912E-5D0BF547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9BEEA-6949-4BA9-B679-316B0827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A908B-9FDD-4025-AF15-52D22334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B2A6A-399E-4066-A31A-D9CF60F6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7C0D3-AEA9-426F-83C2-844D122F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09008-ADF6-45F8-8BE6-B9194422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D2BC1-CB9D-4E2A-BF86-2BB37CF3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76562-7122-4BF4-AB82-9D02490B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2CB-0184-43F8-B7DD-1629CDE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58B8E-9D8C-4B18-9D5F-77E7494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0F47F-EA02-41C3-8555-183CE160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CABF3-D47A-4CAA-969F-7728846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A7D58-6D4C-4B75-87EC-539798D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1B627-16F0-4EE9-A546-37C8FBFB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6E077-B374-419E-9FC9-F17C3072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B03F6-BF27-4F85-8067-6BF79A7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FB656-F178-4C5C-B6B2-D92226A2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38854-D504-4AE0-823C-6EE927B7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2C4CE-525E-4EF8-90D6-4FB0E836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968D-98D4-4B6B-86EF-114050071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0FF5-5C36-4FAB-8982-2B33E62E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945C-7EC0-47AA-9FF7-0530F385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8A3D-66E4-4396-ACE5-948960909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E5A-962F-4000-8B9B-6CA261312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A350-8F74-4756-B889-B7851B69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8997-A0D7-4727-ADD9-97422BD00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ED5A-2E54-4E26-BE7F-C0D987580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F44F-920E-4E99-9A92-E1DB7CAD8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6D97-6DF2-4972-A48B-774C17B17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659F-7F35-4BFA-B8B2-590C0FC11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80A8-8D83-40F1-8CFA-A3D5CBAB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 5: International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6" descr="calvin faces"/>
          <p:cNvPicPr/>
          <p:nvPr/>
        </p:nvPicPr>
        <p:blipFill>
          <a:blip r:embed="rId1"/>
          <a:stretch/>
        </p:blipFill>
        <p:spPr>
          <a:xfrm>
            <a:off x="2438280" y="2133720"/>
            <a:ext cx="4227480" cy="434340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BF50-97F4-4035-A931-F033FAC22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26"/>
          <p:cNvSpPr/>
          <p:nvPr/>
        </p:nvSpPr>
        <p:spPr>
          <a:xfrm>
            <a:off x="2243880" y="0"/>
            <a:ext cx="495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ernational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028"/>
          <p:cNvSpPr/>
          <p:nvPr/>
        </p:nvSpPr>
        <p:spPr>
          <a:xfrm>
            <a:off x="5635800" y="4276800"/>
            <a:ext cx="868320" cy="19778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029"/>
          <p:cNvSpPr/>
          <p:nvPr/>
        </p:nvSpPr>
        <p:spPr>
          <a:xfrm>
            <a:off x="2076480" y="3319560"/>
            <a:ext cx="2646360" cy="2906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1030"/>
          <p:cNvGrpSpPr/>
          <p:nvPr/>
        </p:nvGrpSpPr>
        <p:grpSpPr>
          <a:xfrm>
            <a:off x="1447920" y="1663560"/>
            <a:ext cx="6854760" cy="5194080"/>
            <a:chOff x="1447920" y="1663560"/>
            <a:chExt cx="6854760" cy="5194080"/>
          </a:xfrm>
        </p:grpSpPr>
        <p:sp>
          <p:nvSpPr>
            <p:cNvPr id="538" name="Rectangle 1031"/>
            <p:cNvSpPr/>
            <p:nvPr/>
          </p:nvSpPr>
          <p:spPr>
            <a:xfrm rot="16200000">
              <a:off x="865080" y="394380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032"/>
            <p:cNvSpPr/>
            <p:nvPr/>
          </p:nvSpPr>
          <p:spPr>
            <a:xfrm rot="16200000">
              <a:off x="4322520" y="392976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033"/>
            <p:cNvSpPr/>
            <p:nvPr/>
          </p:nvSpPr>
          <p:spPr>
            <a:xfrm>
              <a:off x="1722960" y="1663560"/>
              <a:ext cx="367200" cy="47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034"/>
            <p:cNvSpPr/>
            <p:nvPr/>
          </p:nvSpPr>
          <p:spPr>
            <a:xfrm>
              <a:off x="5250600" y="3133440"/>
              <a:ext cx="367200" cy="32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035"/>
            <p:cNvSpPr/>
            <p:nvPr/>
          </p:nvSpPr>
          <p:spPr>
            <a:xfrm>
              <a:off x="2302920" y="6252840"/>
              <a:ext cx="260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    25   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1036"/>
            <p:cNvSpPr/>
            <p:nvPr/>
          </p:nvSpPr>
          <p:spPr>
            <a:xfrm>
              <a:off x="5893920" y="6265800"/>
              <a:ext cx="1703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7"/>
            <p:cNvSpPr/>
            <p:nvPr/>
          </p:nvSpPr>
          <p:spPr>
            <a:xfrm>
              <a:off x="2606040" y="649440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1038"/>
            <p:cNvSpPr/>
            <p:nvPr/>
          </p:nvSpPr>
          <p:spPr>
            <a:xfrm>
              <a:off x="6079680" y="649440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Group 1039"/>
            <p:cNvGrpSpPr/>
            <p:nvPr/>
          </p:nvGrpSpPr>
          <p:grpSpPr>
            <a:xfrm>
              <a:off x="5589720" y="1747800"/>
              <a:ext cx="2712960" cy="4519080"/>
              <a:chOff x="5589720" y="1747800"/>
              <a:chExt cx="2712960" cy="4519080"/>
            </a:xfrm>
          </p:grpSpPr>
          <p:sp>
            <p:nvSpPr>
              <p:cNvPr id="547" name="Line 1040"/>
              <p:cNvSpPr/>
              <p:nvPr/>
            </p:nvSpPr>
            <p:spPr>
              <a:xfrm>
                <a:off x="5629320" y="1747800"/>
                <a:ext cx="0" cy="4519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1041"/>
              <p:cNvSpPr/>
              <p:nvPr/>
            </p:nvSpPr>
            <p:spPr>
              <a:xfrm>
                <a:off x="5589720" y="6253920"/>
                <a:ext cx="27129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1042"/>
            <p:cNvGrpSpPr/>
            <p:nvPr/>
          </p:nvGrpSpPr>
          <p:grpSpPr>
            <a:xfrm>
              <a:off x="2046240" y="1728720"/>
              <a:ext cx="3019320" cy="4555800"/>
              <a:chOff x="2046240" y="1728720"/>
              <a:chExt cx="3019320" cy="4555800"/>
            </a:xfrm>
          </p:grpSpPr>
          <p:sp>
            <p:nvSpPr>
              <p:cNvPr id="550" name="Line 1043"/>
              <p:cNvSpPr/>
              <p:nvPr/>
            </p:nvSpPr>
            <p:spPr>
              <a:xfrm>
                <a:off x="2073240" y="1728720"/>
                <a:ext cx="0" cy="4555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044"/>
              <p:cNvSpPr/>
              <p:nvPr/>
            </p:nvSpPr>
            <p:spPr>
              <a:xfrm>
                <a:off x="2046240" y="6244920"/>
                <a:ext cx="30193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52" name=""/>
          <p:cNvGraphicFramePr/>
          <p:nvPr/>
        </p:nvGraphicFramePr>
        <p:xfrm>
          <a:off x="0" y="1380960"/>
          <a:ext cx="1371600" cy="5486400"/>
        </p:xfrm>
        <a:graphic>
          <a:graphicData uri="http://schemas.openxmlformats.org/drawingml/2006/table">
            <a:tbl>
              <a:tblPr/>
              <a:tblGrid>
                <a:gridCol w="731880"/>
                <a:gridCol w="63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7772400" y="1380960"/>
          <a:ext cx="1371600" cy="4754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Rectangle 1145"/>
          <p:cNvSpPr/>
          <p:nvPr/>
        </p:nvSpPr>
        <p:spPr>
          <a:xfrm>
            <a:off x="1981080" y="251460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US Specializes and makes ONLY W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146"/>
          <p:cNvSpPr/>
          <p:nvPr/>
        </p:nvSpPr>
        <p:spPr>
          <a:xfrm>
            <a:off x="5562720" y="2514600"/>
            <a:ext cx="21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razil Makes ONLY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3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90D8-2247-45E6-B2B6-B1A137D75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34" descr="KKIYGJJ4_usa_flag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1522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36" descr="map_of_brazil_with_flag"/>
          <p:cNvPicPr/>
          <p:nvPr/>
        </p:nvPicPr>
        <p:blipFill>
          <a:blip r:embed="rId2"/>
          <a:stretch/>
        </p:blipFill>
        <p:spPr>
          <a:xfrm>
            <a:off x="7772400" y="0"/>
            <a:ext cx="1204920" cy="120024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1145"/>
          <p:cNvSpPr/>
          <p:nvPr/>
        </p:nvSpPr>
        <p:spPr>
          <a:xfrm>
            <a:off x="26668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145"/>
          <p:cNvSpPr/>
          <p:nvPr/>
        </p:nvSpPr>
        <p:spPr>
          <a:xfrm>
            <a:off x="58672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027"/>
          <p:cNvSpPr/>
          <p:nvPr/>
        </p:nvSpPr>
        <p:spPr>
          <a:xfrm>
            <a:off x="1576440" y="762120"/>
            <a:ext cx="59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Trade: 1 Wheat for 1.5 Su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1667880" y="787320"/>
            <a:ext cx="57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DE SHIFTS THE PPC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5587920" y="4276800"/>
            <a:ext cx="868320" cy="19778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1"/>
          <p:cNvSpPr/>
          <p:nvPr/>
        </p:nvSpPr>
        <p:spPr>
          <a:xfrm>
            <a:off x="2028960" y="3319560"/>
            <a:ext cx="2646360" cy="2906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2"/>
          <p:cNvSpPr/>
          <p:nvPr/>
        </p:nvSpPr>
        <p:spPr>
          <a:xfrm rot="16200000">
            <a:off x="817200" y="39441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3"/>
          <p:cNvSpPr/>
          <p:nvPr/>
        </p:nvSpPr>
        <p:spPr>
          <a:xfrm rot="16200000">
            <a:off x="4275000" y="39297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1675440" y="1663560"/>
            <a:ext cx="36720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5"/>
          <p:cNvSpPr/>
          <p:nvPr/>
        </p:nvSpPr>
        <p:spPr>
          <a:xfrm>
            <a:off x="5202720" y="3133800"/>
            <a:ext cx="36720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6"/>
          <p:cNvSpPr/>
          <p:nvPr/>
        </p:nvSpPr>
        <p:spPr>
          <a:xfrm>
            <a:off x="2255400" y="6253200"/>
            <a:ext cx="260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10    15    20    25   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5846400" y="6265800"/>
            <a:ext cx="170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10    15   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2857680" y="2606760"/>
            <a:ext cx="197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6284880" y="4098960"/>
            <a:ext cx="197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0"/>
          <p:cNvSpPr/>
          <p:nvPr/>
        </p:nvSpPr>
        <p:spPr>
          <a:xfrm flipH="1">
            <a:off x="3333600" y="3300480"/>
            <a:ext cx="735120" cy="608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1"/>
          <p:cNvSpPr/>
          <p:nvPr/>
        </p:nvSpPr>
        <p:spPr>
          <a:xfrm flipH="1">
            <a:off x="6302520" y="4700520"/>
            <a:ext cx="644400" cy="590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2"/>
          <p:cNvSpPr/>
          <p:nvPr/>
        </p:nvSpPr>
        <p:spPr>
          <a:xfrm>
            <a:off x="2558160" y="6494400"/>
            <a:ext cx="156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at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3"/>
          <p:cNvSpPr/>
          <p:nvPr/>
        </p:nvSpPr>
        <p:spPr>
          <a:xfrm>
            <a:off x="6031800" y="6494400"/>
            <a:ext cx="156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at (t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4"/>
          <p:cNvSpPr/>
          <p:nvPr/>
        </p:nvSpPr>
        <p:spPr>
          <a:xfrm>
            <a:off x="5581800" y="4265640"/>
            <a:ext cx="1198440" cy="1982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25"/>
          <p:cNvGrpSpPr/>
          <p:nvPr/>
        </p:nvGrpSpPr>
        <p:grpSpPr>
          <a:xfrm>
            <a:off x="5541840" y="1747800"/>
            <a:ext cx="2712960" cy="4519440"/>
            <a:chOff x="5541840" y="1747800"/>
            <a:chExt cx="2712960" cy="4519440"/>
          </a:xfrm>
        </p:grpSpPr>
        <p:sp>
          <p:nvSpPr>
            <p:cNvPr id="579" name="Line 26"/>
            <p:cNvSpPr/>
            <p:nvPr/>
          </p:nvSpPr>
          <p:spPr>
            <a:xfrm>
              <a:off x="5581440" y="1747800"/>
              <a:ext cx="0" cy="451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27"/>
            <p:cNvSpPr/>
            <p:nvPr/>
          </p:nvSpPr>
          <p:spPr>
            <a:xfrm>
              <a:off x="5541840" y="6254280"/>
              <a:ext cx="2712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Line 28"/>
          <p:cNvSpPr/>
          <p:nvPr/>
        </p:nvSpPr>
        <p:spPr>
          <a:xfrm flipH="1" flipV="1">
            <a:off x="2021040" y="1865160"/>
            <a:ext cx="2673360" cy="43912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29"/>
          <p:cNvGrpSpPr/>
          <p:nvPr/>
        </p:nvGrpSpPr>
        <p:grpSpPr>
          <a:xfrm>
            <a:off x="1998720" y="1728720"/>
            <a:ext cx="3019320" cy="4555800"/>
            <a:chOff x="1998720" y="1728720"/>
            <a:chExt cx="3019320" cy="4555800"/>
          </a:xfrm>
        </p:grpSpPr>
        <p:sp>
          <p:nvSpPr>
            <p:cNvPr id="583" name="Line 30"/>
            <p:cNvSpPr/>
            <p:nvPr/>
          </p:nvSpPr>
          <p:spPr>
            <a:xfrm>
              <a:off x="2025720" y="1728720"/>
              <a:ext cx="0" cy="455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1"/>
            <p:cNvSpPr/>
            <p:nvPr/>
          </p:nvSpPr>
          <p:spPr>
            <a:xfrm>
              <a:off x="1998720" y="6244920"/>
              <a:ext cx="3019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Rectangle 32"/>
          <p:cNvSpPr/>
          <p:nvPr/>
        </p:nvSpPr>
        <p:spPr>
          <a:xfrm>
            <a:off x="2243880" y="0"/>
            <a:ext cx="495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ernational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116-224A-42F9-8B85-181AEC27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35" descr="KKIYGJJ4_usa_flag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1522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6" descr="map_of_brazil_with_flag"/>
          <p:cNvPicPr/>
          <p:nvPr/>
        </p:nvPicPr>
        <p:blipFill>
          <a:blip r:embed="rId2"/>
          <a:stretch/>
        </p:blipFill>
        <p:spPr>
          <a:xfrm>
            <a:off x="7772400" y="0"/>
            <a:ext cx="1204920" cy="12002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145"/>
          <p:cNvSpPr/>
          <p:nvPr/>
        </p:nvSpPr>
        <p:spPr>
          <a:xfrm>
            <a:off x="26668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1145"/>
          <p:cNvSpPr/>
          <p:nvPr/>
        </p:nvSpPr>
        <p:spPr>
          <a:xfrm>
            <a:off x="58672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3"/>
          <p:cNvSpPr/>
          <p:nvPr/>
        </p:nvSpPr>
        <p:spPr>
          <a:xfrm>
            <a:off x="5334120" y="4952880"/>
            <a:ext cx="838080" cy="1295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2133720" y="4267080"/>
            <a:ext cx="2590560" cy="19814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1523880" y="2590920"/>
            <a:ext cx="6264000" cy="4187880"/>
            <a:chOff x="1523880" y="2590920"/>
            <a:chExt cx="6264000" cy="4187880"/>
          </a:xfrm>
        </p:grpSpPr>
        <p:sp>
          <p:nvSpPr>
            <p:cNvPr id="594" name="Rectangle 6"/>
            <p:cNvSpPr/>
            <p:nvPr/>
          </p:nvSpPr>
          <p:spPr>
            <a:xfrm rot="16200000">
              <a:off x="941040" y="419688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7"/>
            <p:cNvSpPr/>
            <p:nvPr/>
          </p:nvSpPr>
          <p:spPr>
            <a:xfrm rot="16200000">
              <a:off x="4100400" y="418428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gar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8"/>
            <p:cNvSpPr/>
            <p:nvPr/>
          </p:nvSpPr>
          <p:spPr>
            <a:xfrm>
              <a:off x="1775160" y="2590920"/>
              <a:ext cx="367200" cy="34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4998960" y="3754440"/>
              <a:ext cx="36720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2306160" y="6225840"/>
              <a:ext cx="260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    25    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5587560" y="6233040"/>
              <a:ext cx="1703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    10    15   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12"/>
            <p:cNvSpPr/>
            <p:nvPr/>
          </p:nvSpPr>
          <p:spPr>
            <a:xfrm>
              <a:off x="2581920" y="641412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13"/>
            <p:cNvSpPr/>
            <p:nvPr/>
          </p:nvSpPr>
          <p:spPr>
            <a:xfrm>
              <a:off x="5756400" y="6415560"/>
              <a:ext cx="156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 (to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14"/>
            <p:cNvGrpSpPr/>
            <p:nvPr/>
          </p:nvGrpSpPr>
          <p:grpSpPr>
            <a:xfrm>
              <a:off x="5308920" y="2657520"/>
              <a:ext cx="2478960" cy="3578040"/>
              <a:chOff x="5308920" y="2657520"/>
              <a:chExt cx="2478960" cy="3578040"/>
            </a:xfrm>
          </p:grpSpPr>
          <p:sp>
            <p:nvSpPr>
              <p:cNvPr id="603" name="Line 15"/>
              <p:cNvSpPr/>
              <p:nvPr/>
            </p:nvSpPr>
            <p:spPr>
              <a:xfrm>
                <a:off x="5344920" y="2657520"/>
                <a:ext cx="0" cy="3578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16"/>
              <p:cNvSpPr/>
              <p:nvPr/>
            </p:nvSpPr>
            <p:spPr>
              <a:xfrm>
                <a:off x="5308920" y="6225120"/>
                <a:ext cx="24789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17"/>
            <p:cNvGrpSpPr/>
            <p:nvPr/>
          </p:nvGrpSpPr>
          <p:grpSpPr>
            <a:xfrm>
              <a:off x="2070360" y="2642400"/>
              <a:ext cx="2759400" cy="3607200"/>
              <a:chOff x="2070360" y="2642400"/>
              <a:chExt cx="2759400" cy="3607200"/>
            </a:xfrm>
          </p:grpSpPr>
          <p:sp>
            <p:nvSpPr>
              <p:cNvPr id="606" name="Line 18"/>
              <p:cNvSpPr/>
              <p:nvPr/>
            </p:nvSpPr>
            <p:spPr>
              <a:xfrm>
                <a:off x="2094840" y="2642400"/>
                <a:ext cx="0" cy="360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19"/>
              <p:cNvSpPr/>
              <p:nvPr/>
            </p:nvSpPr>
            <p:spPr>
              <a:xfrm>
                <a:off x="2070360" y="6217920"/>
                <a:ext cx="2759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08" name=""/>
          <p:cNvGraphicFramePr/>
          <p:nvPr/>
        </p:nvGraphicFramePr>
        <p:xfrm>
          <a:off x="304920" y="152280"/>
          <a:ext cx="8305560" cy="190512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Rectangle 52"/>
          <p:cNvSpPr/>
          <p:nvPr/>
        </p:nvSpPr>
        <p:spPr>
          <a:xfrm>
            <a:off x="1908000" y="9144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53"/>
          <p:cNvSpPr/>
          <p:nvPr/>
        </p:nvSpPr>
        <p:spPr>
          <a:xfrm>
            <a:off x="1829880" y="1523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4"/>
          <p:cNvSpPr/>
          <p:nvPr/>
        </p:nvSpPr>
        <p:spPr>
          <a:xfrm>
            <a:off x="3888720" y="228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55"/>
          <p:cNvSpPr/>
          <p:nvPr/>
        </p:nvSpPr>
        <p:spPr>
          <a:xfrm>
            <a:off x="6708240" y="22860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6"/>
          <p:cNvSpPr/>
          <p:nvPr/>
        </p:nvSpPr>
        <p:spPr>
          <a:xfrm>
            <a:off x="30499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57"/>
          <p:cNvSpPr/>
          <p:nvPr/>
        </p:nvSpPr>
        <p:spPr>
          <a:xfrm>
            <a:off x="57931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59"/>
          <p:cNvSpPr/>
          <p:nvPr/>
        </p:nvSpPr>
        <p:spPr>
          <a:xfrm>
            <a:off x="29736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0"/>
          <p:cNvSpPr/>
          <p:nvPr/>
        </p:nvSpPr>
        <p:spPr>
          <a:xfrm>
            <a:off x="579312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61"/>
          <p:cNvSpPr/>
          <p:nvPr/>
        </p:nvSpPr>
        <p:spPr>
          <a:xfrm>
            <a:off x="3582720" y="9651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W costs 1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62"/>
          <p:cNvSpPr/>
          <p:nvPr/>
        </p:nvSpPr>
        <p:spPr>
          <a:xfrm>
            <a:off x="6325920" y="9651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S costs 1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63"/>
          <p:cNvSpPr/>
          <p:nvPr/>
        </p:nvSpPr>
        <p:spPr>
          <a:xfrm>
            <a:off x="3430080" y="15238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W costs 2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64"/>
          <p:cNvSpPr/>
          <p:nvPr/>
        </p:nvSpPr>
        <p:spPr>
          <a:xfrm>
            <a:off x="6249600" y="15238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S costs 1/2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65"/>
          <p:cNvSpPr/>
          <p:nvPr/>
        </p:nvSpPr>
        <p:spPr>
          <a:xfrm>
            <a:off x="383400" y="2133720"/>
            <a:ext cx="85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Which country has a comparative advantage in w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67"/>
          <p:cNvSpPr/>
          <p:nvPr/>
        </p:nvSpPr>
        <p:spPr>
          <a:xfrm>
            <a:off x="2971800" y="6858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68"/>
          <p:cNvSpPr/>
          <p:nvPr/>
        </p:nvSpPr>
        <p:spPr>
          <a:xfrm>
            <a:off x="5791320" y="13716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69"/>
          <p:cNvSpPr/>
          <p:nvPr/>
        </p:nvSpPr>
        <p:spPr>
          <a:xfrm>
            <a:off x="938520" y="3200400"/>
            <a:ext cx="6945840" cy="137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EXPORT Sug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EXPORT Whea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ch country should IMPORT W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25FB-E8A8-4544-8001-D5A02C442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61" descr="KKIYGJJ4_usa_flag"/>
          <p:cNvPicPr/>
          <p:nvPr/>
        </p:nvPicPr>
        <p:blipFill>
          <a:blip r:embed="rId1"/>
          <a:srcRect l="5754" t="19177" r="4560" b="14973"/>
          <a:stretch/>
        </p:blipFill>
        <p:spPr>
          <a:xfrm>
            <a:off x="152280" y="533412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2" descr="map_of_brazil_with_flag"/>
          <p:cNvPicPr/>
          <p:nvPr/>
        </p:nvPicPr>
        <p:blipFill>
          <a:blip r:embed="rId2"/>
          <a:stretch/>
        </p:blipFill>
        <p:spPr>
          <a:xfrm>
            <a:off x="7772400" y="5105520"/>
            <a:ext cx="12049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http://www.ih.k12.oh.us/hsslonim/AP_Economics/MacVisual/6-2.ht11.gif"/>
          <p:cNvPicPr/>
          <p:nvPr/>
        </p:nvPicPr>
        <p:blipFill>
          <a:blip r:embed="rId1"/>
          <a:srcRect l="0" t="7958" r="0" b="0"/>
          <a:stretch/>
        </p:blipFill>
        <p:spPr>
          <a:xfrm>
            <a:off x="0" y="304920"/>
            <a:ext cx="6443640" cy="655308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3"/>
          <p:cNvSpPr/>
          <p:nvPr/>
        </p:nvSpPr>
        <p:spPr>
          <a:xfrm>
            <a:off x="4791600" y="2590920"/>
            <a:ext cx="43470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utpu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pu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 g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F1B-1732-43BF-B48B-34C36C22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3" descr="http://www.ih.k12.oh.us/hsslonim/AP_Economics/MacVisual/6-3.ht12.gif"/>
          <p:cNvPicPr/>
          <p:nvPr/>
        </p:nvPicPr>
        <p:blipFill>
          <a:blip r:embed="rId1"/>
          <a:srcRect l="0" t="7259" r="0" b="10660"/>
          <a:stretch/>
        </p:blipFill>
        <p:spPr>
          <a:xfrm>
            <a:off x="0" y="380880"/>
            <a:ext cx="5913360" cy="586764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4"/>
          <p:cNvSpPr/>
          <p:nvPr/>
        </p:nvSpPr>
        <p:spPr>
          <a:xfrm>
            <a:off x="4691880" y="2414520"/>
            <a:ext cx="43653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pu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U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u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 g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DFB2-DB05-4A6F-BA22-9ED2A97D2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914400" y="26668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 of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8EC0-7BF8-45D5-8799-97AD1455A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"/>
          <p:cNvGraphicFramePr/>
          <p:nvPr/>
        </p:nvGraphicFramePr>
        <p:xfrm>
          <a:off x="304920" y="152280"/>
          <a:ext cx="8305560" cy="190512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Rectangle 20"/>
          <p:cNvSpPr/>
          <p:nvPr/>
        </p:nvSpPr>
        <p:spPr>
          <a:xfrm>
            <a:off x="1603440" y="914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1"/>
          <p:cNvSpPr/>
          <p:nvPr/>
        </p:nvSpPr>
        <p:spPr>
          <a:xfrm>
            <a:off x="1830960" y="1523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22"/>
          <p:cNvSpPr/>
          <p:nvPr/>
        </p:nvSpPr>
        <p:spPr>
          <a:xfrm>
            <a:off x="3352680" y="228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ine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3"/>
          <p:cNvSpPr/>
          <p:nvPr/>
        </p:nvSpPr>
        <p:spPr>
          <a:xfrm>
            <a:off x="6175440" y="22860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30499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25"/>
          <p:cNvSpPr/>
          <p:nvPr/>
        </p:nvSpPr>
        <p:spPr>
          <a:xfrm>
            <a:off x="5793120" y="914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6"/>
          <p:cNvSpPr/>
          <p:nvPr/>
        </p:nvSpPr>
        <p:spPr>
          <a:xfrm>
            <a:off x="29736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7"/>
          <p:cNvSpPr/>
          <p:nvPr/>
        </p:nvSpPr>
        <p:spPr>
          <a:xfrm>
            <a:off x="579312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8"/>
          <p:cNvSpPr/>
          <p:nvPr/>
        </p:nvSpPr>
        <p:spPr>
          <a:xfrm>
            <a:off x="3430800" y="9907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/3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9"/>
          <p:cNvSpPr/>
          <p:nvPr/>
        </p:nvSpPr>
        <p:spPr>
          <a:xfrm>
            <a:off x="6325920" y="9651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3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0"/>
          <p:cNvSpPr/>
          <p:nvPr/>
        </p:nvSpPr>
        <p:spPr>
          <a:xfrm>
            <a:off x="3431160" y="15238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6249960" y="1523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1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32"/>
          <p:cNvSpPr/>
          <p:nvPr/>
        </p:nvSpPr>
        <p:spPr>
          <a:xfrm>
            <a:off x="2971800" y="6858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33"/>
          <p:cNvSpPr/>
          <p:nvPr/>
        </p:nvSpPr>
        <p:spPr>
          <a:xfrm>
            <a:off x="5791320" y="137160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4"/>
          <p:cNvSpPr/>
          <p:nvPr/>
        </p:nvSpPr>
        <p:spPr>
          <a:xfrm>
            <a:off x="76320" y="2209680"/>
            <a:ext cx="90676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nya wants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terms of trade for 1 radio i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eater tha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3 pineapples then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Kenya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is worse off and should make radios on thei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a wants Pineap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the terms of trade for 1 radio i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1 pineapple then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dia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is worse off and should make pineapples on thei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erms of trade benefit both countries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76320" y="2438280"/>
            <a:ext cx="90676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ding 1 radio for 2 pineapples will benefit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f Kenya produces radios by themselves, they give up 3 Pineapples for each radio. If they can trade 2 pineapples for each radio they are better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f India produces pineapples by themselves, they give up 1 pineapple for one radio. If they can get 2 pineapples for one radio they are better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ntries trade at a lower opportunity cost than if they made the products themselv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457200" y="304920"/>
          <a:ext cx="8305920" cy="19047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5" name="Rectangle 21"/>
          <p:cNvSpPr/>
          <p:nvPr/>
        </p:nvSpPr>
        <p:spPr>
          <a:xfrm>
            <a:off x="1679760" y="1066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2"/>
          <p:cNvSpPr/>
          <p:nvPr/>
        </p:nvSpPr>
        <p:spPr>
          <a:xfrm>
            <a:off x="1983240" y="16765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3"/>
          <p:cNvSpPr/>
          <p:nvPr/>
        </p:nvSpPr>
        <p:spPr>
          <a:xfrm>
            <a:off x="3352680" y="380880"/>
            <a:ext cx="27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ine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24"/>
          <p:cNvSpPr/>
          <p:nvPr/>
        </p:nvSpPr>
        <p:spPr>
          <a:xfrm>
            <a:off x="6324480" y="380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25"/>
          <p:cNvSpPr/>
          <p:nvPr/>
        </p:nvSpPr>
        <p:spPr>
          <a:xfrm>
            <a:off x="3202200" y="1066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26"/>
          <p:cNvSpPr/>
          <p:nvPr/>
        </p:nvSpPr>
        <p:spPr>
          <a:xfrm>
            <a:off x="5945400" y="1066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7"/>
          <p:cNvSpPr/>
          <p:nvPr/>
        </p:nvSpPr>
        <p:spPr>
          <a:xfrm>
            <a:off x="3125880" y="1676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8"/>
          <p:cNvSpPr/>
          <p:nvPr/>
        </p:nvSpPr>
        <p:spPr>
          <a:xfrm>
            <a:off x="5945400" y="1676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9"/>
          <p:cNvSpPr/>
          <p:nvPr/>
        </p:nvSpPr>
        <p:spPr>
          <a:xfrm>
            <a:off x="3583080" y="11430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/3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0"/>
          <p:cNvSpPr/>
          <p:nvPr/>
        </p:nvSpPr>
        <p:spPr>
          <a:xfrm>
            <a:off x="6478560" y="11174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3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3583440" y="16765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P costs 1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2"/>
          <p:cNvSpPr/>
          <p:nvPr/>
        </p:nvSpPr>
        <p:spPr>
          <a:xfrm>
            <a:off x="6402240" y="16765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R costs 1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33"/>
          <p:cNvSpPr/>
          <p:nvPr/>
        </p:nvSpPr>
        <p:spPr>
          <a:xfrm>
            <a:off x="3124080" y="838080"/>
            <a:ext cx="289584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34"/>
          <p:cNvSpPr/>
          <p:nvPr/>
        </p:nvSpPr>
        <p:spPr>
          <a:xfrm>
            <a:off x="5943600" y="1523880"/>
            <a:ext cx="2895480" cy="9144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448200" y="0"/>
            <a:ext cx="8141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omparative Advantag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673200"/>
            <a:ext cx="906768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reate a chart for each of the following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irst- Identify if it is a output or input qu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cond-Identify who has the ABSOLUT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ird-Identify who has a COMPARA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urth- Identify how they should speci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ara gives 2 haircuts or 1 perm and hour. Megan gives 3 haircuts or 2 perms per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Justin fixes 16 flats or 8 brakes per day. Tim fixes 14 flats or 8 brakes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Hannah takes 30 minutes to wash dishes and 1 hour to vacuum the house. Kevin takes 15 minutes to wash dishes and 45 minutes to vacu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mericans produce 50 computers or 50 TVs per hour. Chinese produce 30 computers or 40 TVs per ho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9B77-0C9C-44DB-BA34-7AB9A315E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6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ternational Trade and Fi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5A16-1164-4795-BF01-4715F981A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085840" cy="1322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5" descr="Ship"/>
          <p:cNvPicPr/>
          <p:nvPr/>
        </p:nvPicPr>
        <p:blipFill>
          <a:blip r:embed="rId2"/>
          <a:stretch/>
        </p:blipFill>
        <p:spPr>
          <a:xfrm>
            <a:off x="2133720" y="4114800"/>
            <a:ext cx="4933800" cy="231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685800" y="2666880"/>
            <a:ext cx="76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990720" y="3657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Why do people trade?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F2DE-AB53-4547-B1BB-C7A1A523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4"/>
          <p:cNvSpPr/>
          <p:nvPr/>
        </p:nvSpPr>
        <p:spPr>
          <a:xfrm>
            <a:off x="0" y="3581280"/>
            <a:ext cx="91440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Expor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Goods &amp; Services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16%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of American GD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US Exports have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doubl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s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ercent of GDP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since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197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152280" y="990720"/>
            <a:ext cx="86108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losed vs. Open Econom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 closed economy focuses only on the domestic price and the open economy trades for the lower world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7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92EE-7191-4D46-85CB-F97383A73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alance of Trade vs.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alance of Pay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lance of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228600" y="609480"/>
            <a:ext cx="86868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Net Exports (X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Arial"/>
              </a:rPr>
              <a:t>N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) = Exports – Im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rade Surplus = Exporting more than is impor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rade Deficit (aka. trade gap) = Exporting less than is impor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4" descr="mcc19359_tb0602"/>
          <p:cNvPicPr/>
          <p:nvPr/>
        </p:nvPicPr>
        <p:blipFill>
          <a:blip r:embed="rId1"/>
          <a:srcRect l="0" t="6898" r="0" b="0"/>
          <a:stretch/>
        </p:blipFill>
        <p:spPr>
          <a:xfrm>
            <a:off x="1219320" y="2743200"/>
            <a:ext cx="687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lance of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3" descr="TradeDeficit"/>
          <p:cNvPicPr/>
          <p:nvPr/>
        </p:nvPicPr>
        <p:blipFill>
          <a:blip r:embed="rId1"/>
          <a:srcRect l="0" t="11879" r="0" b="10946"/>
          <a:stretch/>
        </p:blipFill>
        <p:spPr>
          <a:xfrm>
            <a:off x="533520" y="1219320"/>
            <a:ext cx="80769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lance of Payments (BO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228600" y="609480"/>
            <a:ext cx="876312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alance of trade includes only goods and service but balance of payments considers ALL international trans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lance of payments is a broader measure of international tr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tails: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The BOP summary is within a given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Prepared in the domestic country’s curr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. If accounting the BOP of the U.S. it would be in the Dol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The balance of payments is made up of two accounts. The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Arial"/>
              </a:rPr>
              <a:t>current account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 and the capital acco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62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hich countries have the highest account surpluses and account defici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0">
              <a:lnSpc>
                <a:spcPct val="80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3" descr=""/>
          <p:cNvPicPr/>
          <p:nvPr/>
        </p:nvPicPr>
        <p:blipFill>
          <a:blip r:embed="rId1"/>
          <a:srcRect l="31877" t="26000" r="20625" b="31003"/>
          <a:stretch/>
        </p:blipFill>
        <p:spPr>
          <a:xfrm>
            <a:off x="1752480" y="914400"/>
            <a:ext cx="5791320" cy="32767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"/>
          <p:cNvPicPr/>
          <p:nvPr/>
        </p:nvPicPr>
        <p:blipFill>
          <a:blip r:embed="rId2"/>
          <a:srcRect l="31877" t="52001" r="20625" b="13000"/>
          <a:stretch/>
        </p:blipFill>
        <p:spPr>
          <a:xfrm>
            <a:off x="1752480" y="3886200"/>
            <a:ext cx="5791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urrent Acco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urrent Account is made up of three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rades in Goods and Servic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Net Exports)-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fference between a nation’s exports of goods and services and its imports of good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Toys imported from China, US cars exported to Mexic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nvestment Income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income from the factors of productions including payments made to foreign investo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Money earned by Japanese car producers in the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Net Transfers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Money flows from the private or public s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donations, aids and grants, official ass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pital (Financial) Acco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apital Account measures the purchase and sale of financial assets abro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urchases of things that stay in the foreign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xample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99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US company buys a hotel in 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99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 Korean company sells a factory i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99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Dividends earned by Chinese citizens in the New York Stock Exchange (NY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99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ustralian company owns local 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3" descr="3113084214_c458451335"/>
          <p:cNvPicPr/>
          <p:nvPr/>
        </p:nvPicPr>
        <p:blipFill>
          <a:blip r:embed="rId1"/>
          <a:stretch/>
        </p:blipFill>
        <p:spPr>
          <a:xfrm>
            <a:off x="1676520" y="48006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800pxd-Flag_of_Australia"/>
          <p:cNvPicPr/>
          <p:nvPr/>
        </p:nvPicPr>
        <p:blipFill>
          <a:blip r:embed="rId2"/>
          <a:stretch/>
        </p:blipFill>
        <p:spPr>
          <a:xfrm>
            <a:off x="5181480" y="4952880"/>
            <a:ext cx="3200400" cy="16002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westfield_logo"/>
          <p:cNvPicPr/>
          <p:nvPr/>
        </p:nvPicPr>
        <p:blipFill>
          <a:blip r:embed="rId3"/>
          <a:stretch/>
        </p:blipFill>
        <p:spPr>
          <a:xfrm>
            <a:off x="3809880" y="5991120"/>
            <a:ext cx="17337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urrent or Capital Accou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dentify if the examples are counted in the current or capital account and determine if it is a credit or debit for the 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ll, an American, invests $20 million in a ski resort in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Korean company sells vests to the US Mil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US company, Boeing, sells twenty 747s to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hinese company buys a shopping mall in San D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llegal immigrant sends a portion of his earning to his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German investor buys $50,000 US Treasury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alian tourists spend 5 million in the US while American tourists spend 8 million in Ita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6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urrent or Capital Accou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dentify if the examples are counted in the current or capital account and determine if it is a credit or debit for the 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Account (financial asset), D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Account (trade of goods/services), De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Account (trade of goods/services),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Account (financial asset),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Account (net transfer), De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Account (financial asset),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Account (net transfer), Deb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665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gic of Markets” Brown Bag Activ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3E8D-97F5-42CC-9902-5CC74CAB3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83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U.S. income increase relative to other countries. Does the balance of trade move toward a deficit or a surpl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.S. citizens have more disposable incom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mericans import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t exports (X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current account balance decreases and moves toward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defici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the U.S. dolla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lative to other countries does the balance of trade move toward a deficit or a surpl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S exports are desi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merica exports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t exports (X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current account balance decreases and moves toward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urplu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-152280" y="304920"/>
            <a:ext cx="9296280" cy="2676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8174160" cy="16002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76406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1804680" y="3505320"/>
            <a:ext cx="56998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Foreign Exchan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(aka. FOREX)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601560" y="54864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xchange Rate = Relative Price of Curr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Picture 4" descr="foreign_exchange"/>
          <p:cNvPicPr/>
          <p:nvPr/>
        </p:nvPicPr>
        <p:blipFill>
          <a:blip r:embed="rId1"/>
          <a:srcRect l="0" t="25162" r="0" b="0"/>
          <a:stretch/>
        </p:blipFill>
        <p:spPr>
          <a:xfrm>
            <a:off x="3276720" y="838080"/>
            <a:ext cx="2509560" cy="249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ideo: Down and Out Dolla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xports and Im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US sells cars to Mex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Mexico buys tractors from Can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Canada sells syrup t the U.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Japan buys Fireworks from Mexico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04920" y="2819520"/>
            <a:ext cx="8839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all these transactions, there are different national currenc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country must be paid in their own cur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uyer (importer) must exchange  their currency for that of the sellers (export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20070311100827!A_large_blank_world_map_with_oceans_marked_in_blue"/>
          <p:cNvPicPr/>
          <p:nvPr/>
        </p:nvPicPr>
        <p:blipFill>
          <a:blip r:embed="rId1"/>
          <a:stretch/>
        </p:blipFill>
        <p:spPr>
          <a:xfrm>
            <a:off x="3352680" y="1981080"/>
            <a:ext cx="5181840" cy="257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urnover in FOREX markets is almost $4 trillion (USD) a d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28600" y="2056320"/>
            <a:ext cx="29401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rrency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D = US Dol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 = Eu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PY = Japanese Y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BP = British P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F = Swiss Fran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D = Canadian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D = Australian Dol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ZD = New Zealand Dol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4" descr=""/>
          <p:cNvPicPr/>
          <p:nvPr/>
        </p:nvPicPr>
        <p:blipFill>
          <a:blip r:embed="rId1"/>
          <a:srcRect l="10626" t="21002" r="39376" b="8999"/>
          <a:stretch/>
        </p:blipFill>
        <p:spPr>
          <a:xfrm>
            <a:off x="152280" y="123840"/>
            <a:ext cx="769644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2436840" y="152280"/>
            <a:ext cx="40737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  <a:ea typeface="Arial"/>
              </a:rPr>
              <a:t>Exchange Rat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304920" y="685800"/>
            <a:ext cx="864396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In the FOREX market we only look at two countries/currencies at a time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Ex: US Dollars and British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We examine the price of one currency in terms of the other currency.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Ex:$2 = £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Exchange Rate depends on which currency you are conver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The price of one US Dollar in terms of Pounds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1 Dollar = £1/$2 =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£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The price of one Pound in terms of Dollars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1 Pound = $2/£1 =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$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228600" y="0"/>
            <a:ext cx="876312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ppens if you need more dollar to buy one pound (the price for a pound increases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Ex: From $2=£1 to $5=£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U.S. Dollar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DEPRECI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relative to the 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  <a:ea typeface="Arial"/>
              </a:rPr>
              <a:t>Depre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The loss of value of a country's currency with respect to a foreign cur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More units of dollars are needed to buy a single unit of the other currency.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dollar is said to be “Weak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76312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ppens if you need less dollar to buy one pound (the price for a pound decreases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Ex: From $2=£1 to $1=£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U.S. Dollar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APPRECI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relative to the 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  <a:ea typeface="Arial"/>
              </a:rPr>
              <a:t>Appre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The increase of value of a country's currency with respect to a foreign cur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Less units of dollars are needed to buy a single unit of the other currency.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dollar is said to be “Strong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04920" y="0"/>
            <a:ext cx="8610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people tra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26"/>
          <p:cNvSpPr/>
          <p:nvPr/>
        </p:nvSpPr>
        <p:spPr>
          <a:xfrm>
            <a:off x="152280" y="838080"/>
            <a:ext cx="8991720" cy="57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ume people didn’t trade. What things would you have to go withou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verything you don’t produce yourself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Clothes, car, cell phone, bananas, heath 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Point: Everyone specializes in the production of goods and services and trades it to oth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ould life be like if cities couldn’t trade with cities or states couldn’t trade with st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imiting trade would reduce people’s choices and makes the worse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Point: More access to trade means more choices and a higher standard of liv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5843-80FD-4FF8-A15F-DF9275B19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Line 2"/>
          <p:cNvSpPr/>
          <p:nvPr/>
        </p:nvSpPr>
        <p:spPr>
          <a:xfrm>
            <a:off x="4518000" y="3573360"/>
            <a:ext cx="0" cy="239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 flipH="1">
            <a:off x="1623960" y="3560760"/>
            <a:ext cx="2882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1731600" y="0"/>
            <a:ext cx="5963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  <a:ea typeface="Arial"/>
              </a:rPr>
              <a:t>S&amp;D for the US Dollar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0" y="60948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ice of US Dol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7284240" y="603108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7"/>
          <p:cNvSpPr/>
          <p:nvPr/>
        </p:nvSpPr>
        <p:spPr>
          <a:xfrm>
            <a:off x="2347920" y="1370160"/>
            <a:ext cx="4221000" cy="422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V="1">
            <a:off x="2538360" y="1272960"/>
            <a:ext cx="4175280" cy="4327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9"/>
          <p:cNvSpPr/>
          <p:nvPr/>
        </p:nvSpPr>
        <p:spPr>
          <a:xfrm>
            <a:off x="6705720" y="5029200"/>
            <a:ext cx="152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mand by Brit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6773760" y="1081080"/>
            <a:ext cx="168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by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3554280" y="1292400"/>
            <a:ext cx="1970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ilibriu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$1 = £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3046680" y="6172200"/>
            <a:ext cx="317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uantity of US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762120" y="2362320"/>
            <a:ext cx="83808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/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14"/>
          <p:cNvSpPr/>
          <p:nvPr/>
        </p:nvSpPr>
        <p:spPr>
          <a:xfrm rot="16200000">
            <a:off x="1249200" y="2102760"/>
            <a:ext cx="1460520" cy="454320"/>
          </a:xfrm>
          <a:prstGeom prst="rightArrow">
            <a:avLst>
              <a:gd name="adj1" fmla="val 50000"/>
              <a:gd name="adj2" fmla="val 160751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15"/>
          <p:cNvSpPr/>
          <p:nvPr/>
        </p:nvSpPr>
        <p:spPr>
          <a:xfrm flipH="1" rot="16200000">
            <a:off x="1249200" y="4465440"/>
            <a:ext cx="1460520" cy="454320"/>
          </a:xfrm>
          <a:prstGeom prst="rightArrow">
            <a:avLst>
              <a:gd name="adj1" fmla="val 50000"/>
              <a:gd name="adj2" fmla="val 160751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6"/>
          <p:cNvSpPr/>
          <p:nvPr/>
        </p:nvSpPr>
        <p:spPr>
          <a:xfrm>
            <a:off x="2148120" y="2828880"/>
            <a:ext cx="15454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US Dol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ppreci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2148480" y="3587760"/>
            <a:ext cx="1528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US Dol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epreci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18"/>
          <p:cNvGrpSpPr/>
          <p:nvPr/>
        </p:nvGrpSpPr>
        <p:grpSpPr>
          <a:xfrm>
            <a:off x="1600200" y="1066680"/>
            <a:ext cx="5708520" cy="4941720"/>
            <a:chOff x="1600200" y="1066680"/>
            <a:chExt cx="5708520" cy="4941720"/>
          </a:xfrm>
        </p:grpSpPr>
        <p:sp>
          <p:nvSpPr>
            <p:cNvPr id="735" name="Line 19"/>
            <p:cNvSpPr/>
            <p:nvPr/>
          </p:nvSpPr>
          <p:spPr>
            <a:xfrm>
              <a:off x="1636920" y="1066680"/>
              <a:ext cx="0" cy="494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1600200" y="5981400"/>
              <a:ext cx="5708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Text Box 21"/>
          <p:cNvSpPr/>
          <p:nvPr/>
        </p:nvSpPr>
        <p:spPr>
          <a:xfrm>
            <a:off x="228600" y="1219320"/>
            <a:ext cx="1371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ound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ollar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380880" y="0"/>
            <a:ext cx="84582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EX Supply and Demand Simplifi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0" y="129528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0000"/>
                </a:solidFill>
                <a:latin typeface="Times New Roman"/>
                <a:ea typeface="Arial"/>
              </a:rPr>
              <a:t>Imagine a huge table with all the different currencies from every count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  <a:ea typeface="Arial"/>
              </a:rPr>
              <a:t>This is the Foreign Exchange Market!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Just like at a product market, you can’t take things without paying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mand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 one currency,  you must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upply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 your currency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4" descr="istockphoto_6516964-world-currencies"/>
          <p:cNvPicPr/>
          <p:nvPr/>
        </p:nvPicPr>
        <p:blipFill>
          <a:blip r:embed="rId1"/>
          <a:stretch/>
        </p:blipFill>
        <p:spPr>
          <a:xfrm>
            <a:off x="6400800" y="4952880"/>
            <a:ext cx="2552760" cy="170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1" name="Rectangle 5"/>
          <p:cNvSpPr/>
          <p:nvPr/>
        </p:nvSpPr>
        <p:spPr>
          <a:xfrm>
            <a:off x="457200" y="47293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Ex: If Canadians what Russian Rubles. The demand for Rubles in the FOREX market will increase and the supply of Canadian Dollars will in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228600" y="2895480"/>
            <a:ext cx="86439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FOREX Shift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1600200" y="39625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Let’s use the example of the US Dollar and the British 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304920" y="228600"/>
            <a:ext cx="8643960" cy="62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1. Changes in Taste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Ex: British tourists flock to the U.S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Demand for U.S. dollars increases (shifts righ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British pounds increases (shifts righ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Pound-depreciate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Dollar-appreci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2. Changes in Relative Incomes (Resulting in more imports)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Ex: US growth increase US incomes…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U.S. buys more imports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pounds increas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U.S. dollars increas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Pound- appreci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Dollar- depreci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7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304920" y="228600"/>
            <a:ext cx="8643960" cy="65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3. Changes in Relative Price Level (Resulting in more imports)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Ex: US prices increase relative to Britai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cheaper imports increas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.S. demand for pounds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pply of U.S. dollars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Pound- appre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Dollar- depre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Arial"/>
              </a:rPr>
              <a:t>4. Changes in relative Interest Rate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Ex: US has a higher interest rate than Britai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people want to invest in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apital Flow increase towards the U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demand for U.S. dollars increas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itish supply more pou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Pound-depre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Dollar- appre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7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7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7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7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7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7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2438280" y="152280"/>
            <a:ext cx="43434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  <a:ea typeface="Arial"/>
              </a:rPr>
              <a:t>Practic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0" y="609480"/>
            <a:ext cx="90248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For each of the following examples, identify what will happen to the value of US Dollars and Japanese Yen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228600" y="1447920"/>
            <a:ext cx="864396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American tourists increase visits to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The US government significantly decreases personal income 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Inflation in the Japan rises significantly faster than in the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Japan has a large budget deficit that increases Japanese interest ra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Japan places high tariffs on all US im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The US suffers a larger rec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The US Federal Reserve sells bonds at high interest ra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6372360"/>
            <a:ext cx="9024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How do these scenarios affect exports and imports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2438280" y="152280"/>
            <a:ext cx="434340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Times New Roman"/>
                <a:ea typeface="Arial"/>
              </a:rPr>
              <a:t>Practic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0" y="609480"/>
            <a:ext cx="90248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For each of the following examples, identify what will happen to the value of US Dollars and Japanese Yen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28600" y="1447920"/>
            <a:ext cx="86439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depreciates and Yen appreciat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depreciates and Yen appreciat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appreciates and Yen depre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depreciates and Yen appre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depreciates (Demand Falls) and Yen appreciates (Supply Fa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appreciates (Supply Falls) and Yen depreciates (Demand Fa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USD appreciates and Yen depre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0" y="5486400"/>
            <a:ext cx="90248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Arial"/>
              </a:rPr>
              <a:t>Scenarios 1, 2, and 4 will increase US exports because US products are now relatively “cheaper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7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380880" y="26668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 and Comparative Advant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2F26-1109-4DB7-9034-057774F1B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98800" y="0"/>
            <a:ext cx="8479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er Unit Opportunity Cos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6"/>
          <p:cNvSpPr/>
          <p:nvPr/>
        </p:nvSpPr>
        <p:spPr>
          <a:xfrm>
            <a:off x="152280" y="1600200"/>
            <a:ext cx="899172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ume it costs you $50 to produce 5 t-shirts. What is your PER UNIT cost for each shir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$10 per shi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w, take money our of the equation. Instead of producing 5 shirts you could have made 10 h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 UNIT OPPORTUNITY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shirt in terms of hats given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 shirt costs 2 h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 UNIT OPPORTUNITY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hat in terms of shirts given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 hat costs a half of a sh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C991-07EB-4E88-B8F6-344B47214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3733920" y="838080"/>
            <a:ext cx="4876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= 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Opportun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Units G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"/>
          <p:cNvSpPr/>
          <p:nvPr/>
        </p:nvSpPr>
        <p:spPr>
          <a:xfrm>
            <a:off x="228600" y="838080"/>
            <a:ext cx="487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er Unit Opportun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298800" y="0"/>
            <a:ext cx="8479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er Unit Opportunity Cos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52280" y="685800"/>
            <a:ext cx="89917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onald McDonald can produce 20 pizzas or 200 burgers Papa John can produce 100 pizzas or 200 bu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Ronald’s opportunity cost for one pizza in terms of burgers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Ronald’s opportunity cost for one burger in terms of pizza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Papa John’s opportunity cost for one pizza in terms of burgers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 is Papa John’s opportunity cost for one burger in terms of pizza given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82CE-724A-43A1-AFA5-A78690A9E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51055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nald h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E ADVANT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production of bu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a John h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E ADVANT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production of pizz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5105520" y="20574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pizza cost 10 bu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4571640" y="28954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burger costs 1/10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4952880" y="37339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pizza costs 2 bu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4876200" y="457200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burger costs 1/2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307800" y="0"/>
            <a:ext cx="8490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bsolute and Comparative Adva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228600" y="685800"/>
            <a:ext cx="8915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producer that can produce the most output OR requires the least amount of inputs (resour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Papa John has an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bsolute advantag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in pizzas because he can produce 100 and Ronald can only make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producer with the lowest opportunity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x: Ronald has a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omparative advantage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in burgers because he has a lowest PER UNIT opportunity cos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63B8-9035-4CB6-AEFB-87240A766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304920" y="4813200"/>
            <a:ext cx="86104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untries should trade if they have a relatively lower opportunity cost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hould specialize in the good that is “cheaper” for them to produ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828800" y="1542960"/>
            <a:ext cx="697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914400" y="2666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Specialize and Tra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322A-E1EF-43CC-8FC8-2640FC9E4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03:32:15Z</dcterms:created>
  <dc:creator>jclifford</dc:creator>
  <dc:description/>
  <dc:language>en-US</dc:language>
  <cp:lastModifiedBy>Jacob</cp:lastModifiedBy>
  <dcterms:modified xsi:type="dcterms:W3CDTF">2012-03-20T05:06:29Z</dcterms:modified>
  <cp:revision>77</cp:revision>
  <dc:subject/>
  <dc:title>AP Economics</dc:title>
</cp:coreProperties>
</file>